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D2C-A8D3-4E6B-9A48-977D4E99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2DC-41F1-4B3D-9D0C-EFD7FA65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CD6-0D15-449D-8C42-0758B1EE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24F-07D9-4102-BE5D-672646FB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287-341C-44B5-A1B9-CA94BE19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87B-0A37-4EDA-A917-E114ECC4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5EA-2165-4CF1-910F-811EFB0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729-EA98-44AB-943C-117C9D0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49E-5717-4F3B-A170-9D83EE7D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136-CA6D-43E6-A946-1D9CB9C0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30C-1720-49F9-A977-A4F697B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FCE-9985-4723-A216-F4C71DF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FE8-0B9F-44DE-9017-01883909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ctor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net relay chat was developed in 1988 by Jarkko Oikarinen and allows instant online communicating with someone else who is also online by typing messag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p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twork Interface Card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Web Site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series of related web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53:13Z</dcterms:created>
  <dc:creator>762923</dc:creator>
  <dc:description/>
  <dc:language>en-US</dc:language>
  <cp:lastModifiedBy>762923</cp:lastModifiedBy>
  <dcterms:modified xsi:type="dcterms:W3CDTF">2009-04-17T15:56:57Z</dcterms:modified>
  <cp:revision>4</cp:revision>
  <dc:subject/>
  <dc:title>Vocabulary</dc:title>
</cp:coreProperties>
</file>